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FBBD-30D6-4CD6-9E97-B666C3582AA3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2001: 4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2002: 5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2003: 6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imes New Roman"/>
              </a:rPr>
              <a:t>15% de crecimiento an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Marzo 19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Encontraron 3 granos sospechosos.  Los mandaron  a dos labs. Uno en Philadelphia y otro en Cincinat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os calif fueron designados como culpables. El 18 de Julio se señala a Guatem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a enfermedad de las vacas locas (BSE) como consecuencia de convertir a un animal vegetariano en cani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a contaminacion de Estrogeno en los empaques plastic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Panico a cualquier contaminacion como la causada por la fiebre del pollo en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Residuos toxicos en el cuerpo que no pueden degrad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a obesidad:  en los EEUU era de 25% en 1981 y en 2001 es de 35%.  Mata a 300,000 y cuesta $100BB en cuidados med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Vegetarianos.  Como respuesta al riezgo de enfermedades coronarias y cancer el crecimiento del consumo de frutas y vegetales sera muy grande en los años por delante. En 1996 era del 5% en EEU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24C6-9874-4E79-8424-B01BE7049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A662-2E37-44F6-974A-09C70630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2431-DB8E-441F-887C-C2ED17DEB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E264-5964-49B4-9623-E7FFD5537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E3F7-6E31-47AE-A1CC-26C3E2DE3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A8C8-2B12-4468-9618-46C8D889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C53A-7372-4EA6-AEBF-BF69A4B9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B017-8B05-4B99-9663-9E22CB5E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8A5D-3279-460C-AFA1-ED808654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CC62-CDA6-4B72-8D24-530FD991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35FE-9FC7-444E-9B43-2E13575B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BFE5-3FC5-4EC5-956A-AD0E4E0A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6AB9-E947-4F5F-9C90-6BF03482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677F-E880-4DB0-9A58-CB45F16E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2E4E6-B97E-4BDF-A91D-604F5BC1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D3FFB-265D-452C-81AF-2CA99AFFB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DD14-C10E-403E-9C8D-299B0DA7C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85BA-B21E-494F-A65C-C085BB75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F374-BD9D-48EC-B665-DF7F548C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6F86-ABF4-466D-85CF-6A191E1E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AF50-398F-4637-BF20-35A4CC10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7A00-745D-4CF9-A956-0E7D308B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A096-3076-4489-B8DE-AB8A725E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E0B2-06E5-4D3F-80AD-41FAFD47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B5E9-102F-4D95-ADB2-EBEB60710AB0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6383-8120-4F1D-92A5-CB954DA09DCA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5160" y="76320"/>
            <a:ext cx="1154160" cy="1000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660066"/>
                </a:solidFill>
                <a:latin typeface="Tahoma"/>
              </a:rPr>
              <a:t>La Calidad en la Agroindustr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           </a:t>
            </a:r>
            <a:r>
              <a:rPr b="0" lang="es-PE" sz="4000" spc="-1" strike="noStrike">
                <a:solidFill>
                  <a:srgbClr val="40458c"/>
                </a:solidFill>
                <a:latin typeface="Tahoma"/>
              </a:rPr>
              <a:t>Una forma de vida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Juan Rodolfo Wiesner     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Gerente Genera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                           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Sistemas Internacionales</a:t>
            </a:r>
            <a:br>
              <a:rPr sz="3600"/>
            </a:b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para la gestión de Calidad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HACC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de Gestión ISO 900/2000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de gestión ambiental ISO 14001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Codex. Higiene de los alimentos. FAO/O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EUREPGA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Sistemas Internacionales</a:t>
            </a:r>
            <a:br>
              <a:rPr sz="3600"/>
            </a:b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para la gestión de Calidad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GMP 13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EF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ENAS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ETC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386440" y="304920"/>
            <a:ext cx="427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PE" sz="1600" spc="-1" strike="noStrike">
                <a:solidFill>
                  <a:srgbClr val="660066"/>
                </a:solidFill>
                <a:latin typeface="Tahoma"/>
              </a:rPr>
              <a:t>EXPORTACIONES AGRICOLAS PERUAN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52280" y="1467000"/>
            <a:ext cx="8991720" cy="53910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660066"/>
                </a:solidFill>
                <a:latin typeface="Tahoma"/>
              </a:rPr>
              <a:t>EXPORTACIONES AGROPECUARIAS EN PERÚ</a:t>
            </a:r>
            <a:br>
              <a:rPr sz="2400"/>
            </a:br>
            <a:r>
              <a:rPr b="0" lang="es-PE" sz="2400" spc="-1" strike="noStrike">
                <a:solidFill>
                  <a:srgbClr val="660066"/>
                </a:solidFill>
                <a:latin typeface="Tahoma"/>
              </a:rPr>
              <a:t>(Millones US$ FOB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600200" y="1676520"/>
          <a:ext cx="7238880" cy="48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676520"/>
                    <a:ext cx="7238880" cy="48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2475000" y="420840"/>
            <a:ext cx="4194000" cy="6018120"/>
            <a:chOff x="2475000" y="420840"/>
            <a:chExt cx="4194000" cy="6018120"/>
          </a:xfrm>
        </p:grpSpPr>
        <p:grpSp>
          <p:nvGrpSpPr>
            <p:cNvPr id="225" name=""/>
            <p:cNvGrpSpPr/>
            <p:nvPr/>
          </p:nvGrpSpPr>
          <p:grpSpPr>
            <a:xfrm>
              <a:off x="2475000" y="420840"/>
              <a:ext cx="4194000" cy="442800"/>
              <a:chOff x="2475000" y="420840"/>
              <a:chExt cx="4194000" cy="442800"/>
            </a:xfrm>
          </p:grpSpPr>
          <p:sp>
            <p:nvSpPr>
              <p:cNvPr id="226" name=""/>
              <p:cNvSpPr/>
              <p:nvPr/>
            </p:nvSpPr>
            <p:spPr>
              <a:xfrm>
                <a:off x="2475000" y="420840"/>
                <a:ext cx="4194000" cy="4428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475000" y="420840"/>
                <a:ext cx="4194000" cy="4428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EXPORTACIONES DE PRODUCTOS AGRÍCOLAS</a:t>
                </a:r>
                <a:br>
                  <a:rPr sz="1200"/>
                </a:br>
                <a:r>
                  <a:rPr b="1" lang="en-US" sz="11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En miles de dólares FOB.</a:t>
                </a:r>
                <a:endParaRPr b="0" lang="en-US" sz="11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2475000" y="863640"/>
              <a:ext cx="2395440" cy="274680"/>
              <a:chOff x="2475000" y="863640"/>
              <a:chExt cx="2395440" cy="274680"/>
            </a:xfrm>
          </p:grpSpPr>
          <p:sp>
            <p:nvSpPr>
              <p:cNvPr id="229" name=""/>
              <p:cNvSpPr/>
              <p:nvPr/>
            </p:nvSpPr>
            <p:spPr>
              <a:xfrm>
                <a:off x="2475000" y="863640"/>
                <a:ext cx="239544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475000" y="863640"/>
                <a:ext cx="239544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Producto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4870440" y="863640"/>
              <a:ext cx="858960" cy="274680"/>
              <a:chOff x="4870440" y="863640"/>
              <a:chExt cx="858960" cy="274680"/>
            </a:xfrm>
          </p:grpSpPr>
          <p:sp>
            <p:nvSpPr>
              <p:cNvPr id="232" name=""/>
              <p:cNvSpPr/>
              <p:nvPr/>
            </p:nvSpPr>
            <p:spPr>
              <a:xfrm>
                <a:off x="4870440" y="863640"/>
                <a:ext cx="85896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870440" y="863640"/>
                <a:ext cx="85896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996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5729400" y="863640"/>
              <a:ext cx="939600" cy="274680"/>
              <a:chOff x="5729400" y="863640"/>
              <a:chExt cx="939600" cy="274680"/>
            </a:xfrm>
          </p:grpSpPr>
          <p:sp>
            <p:nvSpPr>
              <p:cNvPr id="235" name=""/>
              <p:cNvSpPr/>
              <p:nvPr/>
            </p:nvSpPr>
            <p:spPr>
              <a:xfrm>
                <a:off x="5729400" y="863640"/>
                <a:ext cx="93960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729400" y="863640"/>
                <a:ext cx="93960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99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2475000" y="1138320"/>
              <a:ext cx="2395440" cy="274680"/>
              <a:chOff x="2475000" y="1138320"/>
              <a:chExt cx="2395440" cy="274680"/>
            </a:xfrm>
          </p:grpSpPr>
          <p:sp>
            <p:nvSpPr>
              <p:cNvPr id="238" name=""/>
              <p:cNvSpPr/>
              <p:nvPr/>
            </p:nvSpPr>
            <p:spPr>
              <a:xfrm>
                <a:off x="2475000" y="113832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475000" y="113832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Hortaliza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4870440" y="1138320"/>
              <a:ext cx="858960" cy="274680"/>
              <a:chOff x="4870440" y="1138320"/>
              <a:chExt cx="858960" cy="274680"/>
            </a:xfrm>
          </p:grpSpPr>
          <p:sp>
            <p:nvSpPr>
              <p:cNvPr id="241" name=""/>
              <p:cNvSpPr/>
              <p:nvPr/>
            </p:nvSpPr>
            <p:spPr>
              <a:xfrm>
                <a:off x="4870440" y="113832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870440" y="113832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11.914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5729400" y="1138320"/>
              <a:ext cx="939600" cy="274680"/>
              <a:chOff x="5729400" y="1138320"/>
              <a:chExt cx="939600" cy="274680"/>
            </a:xfrm>
          </p:grpSpPr>
          <p:sp>
            <p:nvSpPr>
              <p:cNvPr id="244" name=""/>
              <p:cNvSpPr/>
              <p:nvPr/>
            </p:nvSpPr>
            <p:spPr>
              <a:xfrm>
                <a:off x="5729400" y="113832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729400" y="113832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84.623</a:t>
                </a:r>
                <a:r>
                  <a:rPr b="0" lang="en-US" sz="11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 (1)</a:t>
                </a:r>
                <a:endParaRPr b="0" lang="en-US" sz="11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2475000" y="1413000"/>
              <a:ext cx="2395440" cy="1735200"/>
              <a:chOff x="2475000" y="1413000"/>
              <a:chExt cx="2395440" cy="1735200"/>
            </a:xfrm>
          </p:grpSpPr>
          <p:sp>
            <p:nvSpPr>
              <p:cNvPr id="247" name=""/>
              <p:cNvSpPr/>
              <p:nvPr/>
            </p:nvSpPr>
            <p:spPr>
              <a:xfrm>
                <a:off x="2475000" y="1413000"/>
                <a:ext cx="239544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475000" y="1413000"/>
                <a:ext cx="239544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Frut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Fresc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ongelad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onservadas provisionalmente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onfitad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Mermelad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En conserva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Zumo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Deshidratada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4870440" y="1413000"/>
              <a:ext cx="858960" cy="1735200"/>
              <a:chOff x="4870440" y="1413000"/>
              <a:chExt cx="858960" cy="1735200"/>
            </a:xfrm>
          </p:grpSpPr>
          <p:sp>
            <p:nvSpPr>
              <p:cNvPr id="250" name=""/>
              <p:cNvSpPr/>
              <p:nvPr/>
            </p:nvSpPr>
            <p:spPr>
              <a:xfrm>
                <a:off x="4870440" y="1413000"/>
                <a:ext cx="85896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870440" y="1413000"/>
                <a:ext cx="85896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702.398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345.99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8.282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44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98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1.34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1.57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26.100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75.660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5729400" y="1413000"/>
              <a:ext cx="939600" cy="1735200"/>
              <a:chOff x="5729400" y="1413000"/>
              <a:chExt cx="939600" cy="1735200"/>
            </a:xfrm>
          </p:grpSpPr>
          <p:sp>
            <p:nvSpPr>
              <p:cNvPr id="253" name=""/>
              <p:cNvSpPr/>
              <p:nvPr/>
            </p:nvSpPr>
            <p:spPr>
              <a:xfrm>
                <a:off x="5729400" y="1413000"/>
                <a:ext cx="93960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729400" y="1413000"/>
                <a:ext cx="93960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580.67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291.930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43.96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18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76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0.334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58.99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86.17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75.428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2475000" y="3148200"/>
              <a:ext cx="2395440" cy="274680"/>
              <a:chOff x="2475000" y="3148200"/>
              <a:chExt cx="2395440" cy="274680"/>
            </a:xfrm>
          </p:grpSpPr>
          <p:sp>
            <p:nvSpPr>
              <p:cNvPr id="256" name=""/>
              <p:cNvSpPr/>
              <p:nvPr/>
            </p:nvSpPr>
            <p:spPr>
              <a:xfrm>
                <a:off x="2475000" y="314820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475000" y="314820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Cereale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70440" y="3148200"/>
              <a:ext cx="858960" cy="274680"/>
              <a:chOff x="4870440" y="3148200"/>
              <a:chExt cx="858960" cy="274680"/>
            </a:xfrm>
          </p:grpSpPr>
          <p:sp>
            <p:nvSpPr>
              <p:cNvPr id="259" name=""/>
              <p:cNvSpPr/>
              <p:nvPr/>
            </p:nvSpPr>
            <p:spPr>
              <a:xfrm>
                <a:off x="4870440" y="314820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870440" y="314820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00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729400" y="3148200"/>
              <a:ext cx="939600" cy="274680"/>
              <a:chOff x="5729400" y="3148200"/>
              <a:chExt cx="939600" cy="274680"/>
            </a:xfrm>
          </p:grpSpPr>
          <p:sp>
            <p:nvSpPr>
              <p:cNvPr id="262" name=""/>
              <p:cNvSpPr/>
              <p:nvPr/>
            </p:nvSpPr>
            <p:spPr>
              <a:xfrm>
                <a:off x="5729400" y="314820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729400" y="314820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659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2475000" y="3422880"/>
              <a:ext cx="2395440" cy="274680"/>
              <a:chOff x="2475000" y="3422880"/>
              <a:chExt cx="2395440" cy="274680"/>
            </a:xfrm>
          </p:grpSpPr>
          <p:sp>
            <p:nvSpPr>
              <p:cNvPr id="265" name=""/>
              <p:cNvSpPr/>
              <p:nvPr/>
            </p:nvSpPr>
            <p:spPr>
              <a:xfrm>
                <a:off x="2475000" y="3422880"/>
                <a:ext cx="239544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475000" y="3422880"/>
                <a:ext cx="239544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Legumbre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870440" y="3422880"/>
              <a:ext cx="858960" cy="274680"/>
              <a:chOff x="4870440" y="3422880"/>
              <a:chExt cx="858960" cy="274680"/>
            </a:xfrm>
          </p:grpSpPr>
          <p:sp>
            <p:nvSpPr>
              <p:cNvPr id="268" name=""/>
              <p:cNvSpPr/>
              <p:nvPr/>
            </p:nvSpPr>
            <p:spPr>
              <a:xfrm>
                <a:off x="4870440" y="3422880"/>
                <a:ext cx="85896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70440" y="3422880"/>
                <a:ext cx="85896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8.91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5729400" y="3422880"/>
              <a:ext cx="939600" cy="274680"/>
              <a:chOff x="5729400" y="3422880"/>
              <a:chExt cx="939600" cy="274680"/>
            </a:xfrm>
          </p:grpSpPr>
          <p:sp>
            <p:nvSpPr>
              <p:cNvPr id="271" name=""/>
              <p:cNvSpPr/>
              <p:nvPr/>
            </p:nvSpPr>
            <p:spPr>
              <a:xfrm>
                <a:off x="5729400" y="3422880"/>
                <a:ext cx="93960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729400" y="3422880"/>
                <a:ext cx="93960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7.48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2475000" y="3697560"/>
              <a:ext cx="2395440" cy="274680"/>
              <a:chOff x="2475000" y="3697560"/>
              <a:chExt cx="2395440" cy="274680"/>
            </a:xfrm>
          </p:grpSpPr>
          <p:sp>
            <p:nvSpPr>
              <p:cNvPr id="274" name=""/>
              <p:cNvSpPr/>
              <p:nvPr/>
            </p:nvSpPr>
            <p:spPr>
              <a:xfrm>
                <a:off x="2475000" y="369756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475000" y="369756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Semilla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4870440" y="3697560"/>
              <a:ext cx="858960" cy="274680"/>
              <a:chOff x="4870440" y="3697560"/>
              <a:chExt cx="858960" cy="274680"/>
            </a:xfrm>
          </p:grpSpPr>
          <p:sp>
            <p:nvSpPr>
              <p:cNvPr id="277" name=""/>
              <p:cNvSpPr/>
              <p:nvPr/>
            </p:nvSpPr>
            <p:spPr>
              <a:xfrm>
                <a:off x="4870440" y="369756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70440" y="369756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87.72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5729400" y="3697560"/>
              <a:ext cx="939600" cy="274680"/>
              <a:chOff x="5729400" y="3697560"/>
              <a:chExt cx="939600" cy="274680"/>
            </a:xfrm>
          </p:grpSpPr>
          <p:sp>
            <p:nvSpPr>
              <p:cNvPr id="280" name=""/>
              <p:cNvSpPr/>
              <p:nvPr/>
            </p:nvSpPr>
            <p:spPr>
              <a:xfrm>
                <a:off x="5729400" y="369756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729400" y="369756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03.97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2475000" y="3972240"/>
              <a:ext cx="2395440" cy="1734840"/>
              <a:chOff x="2475000" y="3972240"/>
              <a:chExt cx="2395440" cy="1734840"/>
            </a:xfrm>
          </p:grpSpPr>
          <p:sp>
            <p:nvSpPr>
              <p:cNvPr id="283" name=""/>
              <p:cNvSpPr/>
              <p:nvPr/>
            </p:nvSpPr>
            <p:spPr>
              <a:xfrm>
                <a:off x="2475000" y="3972240"/>
                <a:ext cx="239544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475000" y="3972240"/>
                <a:ext cx="239544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Otros producto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</a:t>
                </a:r>
                <a:r>
                  <a:rPr b="0" i="1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Coseta</a:t>
                </a: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 de remolacha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aramelo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hocolate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Pastas alimentici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Tabaco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Malta, incluso tostada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Zumo en polvo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Vino embotellado y a granel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4870440" y="3972240"/>
              <a:ext cx="858960" cy="1734840"/>
              <a:chOff x="4870440" y="3972240"/>
              <a:chExt cx="858960" cy="1734840"/>
            </a:xfrm>
          </p:grpSpPr>
          <p:sp>
            <p:nvSpPr>
              <p:cNvPr id="286" name=""/>
              <p:cNvSpPr/>
              <p:nvPr/>
            </p:nvSpPr>
            <p:spPr>
              <a:xfrm>
                <a:off x="4870440" y="3972240"/>
                <a:ext cx="85896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870440" y="3972240"/>
                <a:ext cx="85896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569.15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3.481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4.377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3.958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7.20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9.51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7.38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49.16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94.06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5729400" y="3972240"/>
              <a:ext cx="939600" cy="1734840"/>
              <a:chOff x="5729400" y="3972240"/>
              <a:chExt cx="939600" cy="1734840"/>
            </a:xfrm>
          </p:grpSpPr>
          <p:sp>
            <p:nvSpPr>
              <p:cNvPr id="289" name=""/>
              <p:cNvSpPr/>
              <p:nvPr/>
            </p:nvSpPr>
            <p:spPr>
              <a:xfrm>
                <a:off x="5729400" y="3972240"/>
                <a:ext cx="93960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729400" y="3972240"/>
                <a:ext cx="93960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18.090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4.282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5.92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3.781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35.06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2.98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3.97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8.167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423.913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2475000" y="5707080"/>
              <a:ext cx="2395440" cy="274680"/>
              <a:chOff x="2475000" y="5707080"/>
              <a:chExt cx="2395440" cy="274680"/>
            </a:xfrm>
          </p:grpSpPr>
          <p:sp>
            <p:nvSpPr>
              <p:cNvPr id="292" name=""/>
              <p:cNvSpPr/>
              <p:nvPr/>
            </p:nvSpPr>
            <p:spPr>
              <a:xfrm>
                <a:off x="2475000" y="570708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475000" y="570708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Total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4870440" y="5707080"/>
              <a:ext cx="858960" cy="274680"/>
              <a:chOff x="4870440" y="5707080"/>
              <a:chExt cx="858960" cy="274680"/>
            </a:xfrm>
          </p:grpSpPr>
          <p:sp>
            <p:nvSpPr>
              <p:cNvPr id="295" name=""/>
              <p:cNvSpPr/>
              <p:nvPr/>
            </p:nvSpPr>
            <p:spPr>
              <a:xfrm>
                <a:off x="4870440" y="570708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870440" y="570708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591.116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5729400" y="5707080"/>
              <a:ext cx="939600" cy="274680"/>
              <a:chOff x="5729400" y="5707080"/>
              <a:chExt cx="939600" cy="274680"/>
            </a:xfrm>
          </p:grpSpPr>
          <p:sp>
            <p:nvSpPr>
              <p:cNvPr id="298" name=""/>
              <p:cNvSpPr/>
              <p:nvPr/>
            </p:nvSpPr>
            <p:spPr>
              <a:xfrm>
                <a:off x="5729400" y="570708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729400" y="570708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506.50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2475000" y="5981760"/>
              <a:ext cx="4194000" cy="457200"/>
              <a:chOff x="2475000" y="5981760"/>
              <a:chExt cx="4194000" cy="457200"/>
            </a:xfrm>
          </p:grpSpPr>
          <p:sp>
            <p:nvSpPr>
              <p:cNvPr id="301" name=""/>
              <p:cNvSpPr/>
              <p:nvPr/>
            </p:nvSpPr>
            <p:spPr>
              <a:xfrm>
                <a:off x="2475000" y="5981760"/>
                <a:ext cx="4194000" cy="4572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475000" y="5981760"/>
                <a:ext cx="4194000" cy="4572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(1) [</a:t>
                </a:r>
                <a:r>
                  <a:rPr b="0" i="1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Sic</a:t>
                </a: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].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Fuente: Banco Central de Chile.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324480" y="-591120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65160" y="7632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660066"/>
                </a:solidFill>
                <a:latin typeface="Tahoma"/>
              </a:rPr>
              <a:t>CASO DE LAS UVAS CHILENAS CON CIANURO</a:t>
            </a:r>
            <a:br>
              <a:rPr sz="2800"/>
            </a:br>
            <a:r>
              <a:rPr b="0" lang="es-PE" sz="2800" spc="-1" strike="noStrike">
                <a:solidFill>
                  <a:srgbClr val="660066"/>
                </a:solidFill>
                <a:latin typeface="Tahoma"/>
              </a:rPr>
              <a:t>                 (Marzo 1989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Perdidas por $240M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20,000 a 50,000 empleos perdi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2,400 productores afecta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FDA: La Agencia que nunca pier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5"/>
          <a:stretch/>
        </p:blipFill>
        <p:spPr>
          <a:xfrm>
            <a:off x="3886200" y="541008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660066"/>
                </a:solidFill>
                <a:latin typeface="Tahoma"/>
              </a:rPr>
              <a:t>CASO DE LAS FRAMBUESAS DE GUATEMALA</a:t>
            </a:r>
            <a:br>
              <a:rPr sz="2800"/>
            </a:br>
            <a:r>
              <a:rPr b="0" lang="es-PE" sz="2800" spc="-1" strike="noStrike">
                <a:solidFill>
                  <a:srgbClr val="660066"/>
                </a:solidFill>
                <a:latin typeface="Tahoma"/>
              </a:rPr>
              <a:t>                        (Junio 1996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1,465 casos de infección por Cyclospora en EEUU y Canadá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Perdidas en ventas de Fresa de California $20MM a $40M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Se perdio la confianza en un día y toda una vida para recuperarl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Hoy solo 5 firmas producen frutilla de las 85 original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Afecto todas las exportaciones del país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5"/>
          <a:stretch/>
        </p:blipFill>
        <p:spPr>
          <a:xfrm>
            <a:off x="3809880" y="533412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EL MUNDO ACTUAL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La población actual es de 6 billones y será de 8 billones en el 2025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El 95% de este crecimiento será en países pobr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60% de la población mundial vive con US$ 2 a día o men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Un billón de personas no saben leer ni escribi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840 millones tienen hambr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El concepto religioso y tribal será una gran fuerza dominant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El Terrorismo será una forma común de vida en muchos país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40458c"/>
                </a:solidFill>
                <a:latin typeface="Tahoma"/>
              </a:rPr>
              <a:t>Por todo esto el Mundo se caracterizara por grandes conflictos.  Será un Mundo de intolerancia y extremismo -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9"/>
          <a:stretch/>
        </p:blipFill>
        <p:spPr>
          <a:xfrm>
            <a:off x="7162920" y="22860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LA ALIMENTACIÓN EN NUESTROS  MERCADOS DE EXPORTACIÓN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Cada día la neurosis será mayor. Los reclamos por alimentos y bebidas crecerá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Residuos Tóxicos en la sang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La obesidad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Incremento en el consumo de frutas y vegeta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Será proveída por las grandes Cadenas de Supermerca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6"/>
          <a:stretch/>
        </p:blipFill>
        <p:spPr>
          <a:xfrm>
            <a:off x="3657600" y="541008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660066"/>
                </a:solidFill>
                <a:latin typeface="Times New Roman"/>
              </a:rPr>
              <a:t>Ventas Camposol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57200" y="1676520"/>
          <a:ext cx="9220320" cy="556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9220320" cy="55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65160" y="76320"/>
            <a:ext cx="1154160" cy="100008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534160" y="1828800"/>
            <a:ext cx="7596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15:28:25Z</dcterms:created>
  <dc:creator>Juan Rodolfo Wiesner</dc:creator>
  <dc:description/>
  <dc:language>en-US</dc:language>
  <cp:lastModifiedBy>jore</cp:lastModifiedBy>
  <dcterms:modified xsi:type="dcterms:W3CDTF">2004-04-30T17:16:32Z</dcterms:modified>
  <cp:revision>24</cp:revision>
  <dc:subject/>
  <dc:title>Presentación de PowerPoint</dc:title>
</cp:coreProperties>
</file>